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A02-65E1-4738-AC00-B235227E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9F2-FBA1-4911-812C-D2EF919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D31-26FD-41C0-9EBD-85D6D85F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EAD-C8A6-4D21-B2B2-B44AA52D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6BE-120E-431A-82A2-31A9A60B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E05-F133-4BD4-83DE-DBAC31E4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547-E3AD-491D-B6EA-D3E89D2B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F4E-B394-483A-9669-20C23EC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EC0-4C9B-4113-B32C-21106C9B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85F-D4C8-4DEA-8395-9AABD808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E52-6DC7-4143-B6B2-E06C254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444-2511-4A98-8709-35F770C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590-6851-41DF-B444-AE54F0DE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p10"/>
          <p:cNvPicPr/>
          <p:nvPr/>
        </p:nvPicPr>
        <p:blipFill>
          <a:blip r:embed="rId1"/>
          <a:stretch/>
        </p:blipFill>
        <p:spPr>
          <a:xfrm>
            <a:off x="457200" y="2666880"/>
            <a:ext cx="791064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0" y="685800"/>
            <a:ext cx="914400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2-15 &amp; 16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 country on the Atlantic ocean that has the natural resource –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landlocked countries that have copper and cobalt as natur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Name a country that has diamonds AND uran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924680" y="1066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80880" y="1981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ambia and Zimbab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7150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. Afric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0" y="0"/>
            <a:ext cx="5257800" cy="707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 Feb. 15 &amp; 16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a Map Test on Fr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P423-CHART"/>
          <p:cNvPicPr/>
          <p:nvPr/>
        </p:nvPicPr>
        <p:blipFill>
          <a:blip r:embed="rId1"/>
          <a:stretch/>
        </p:blipFill>
        <p:spPr>
          <a:xfrm>
            <a:off x="5257800" y="4054320"/>
            <a:ext cx="4038480" cy="28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ap30iaf"/>
          <p:cNvPicPr/>
          <p:nvPr/>
        </p:nvPicPr>
        <p:blipFill>
          <a:blip r:embed="rId2"/>
          <a:stretch/>
        </p:blipFill>
        <p:spPr>
          <a:xfrm>
            <a:off x="0" y="1969920"/>
            <a:ext cx="5257800" cy="4888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2209680" y="533520"/>
            <a:ext cx="5181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Imperial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50" name="Picture 11" descr="Imperialism in Africa"/>
          <p:cNvPicPr/>
          <p:nvPr/>
        </p:nvPicPr>
        <p:blipFill>
          <a:blip r:embed="rId3"/>
          <a:stretch/>
        </p:blipFill>
        <p:spPr>
          <a:xfrm>
            <a:off x="5638680" y="2089080"/>
            <a:ext cx="2971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7:16:30Z</dcterms:created>
  <dc:creator>poweruser</dc:creator>
  <dc:description/>
  <dc:language>en-US</dc:language>
  <cp:lastModifiedBy>poweruser</cp:lastModifiedBy>
  <dcterms:modified xsi:type="dcterms:W3CDTF">2012-02-20T17:48:38Z</dcterms:modified>
  <cp:revision>7</cp:revision>
  <dc:subject/>
  <dc:title>Slide 1</dc:title>
</cp:coreProperties>
</file>